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505-35F1-4461-BECE-682100F9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A76-FCF7-4F2B-BC28-27E66627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672-A4C0-4597-9B83-1ADE2CCA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987-5E78-4F86-98D7-F12E4F8B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8BC-15D7-4FFA-BEF5-5F1E1EFC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5F1-19A9-4A6A-A67F-FE349A53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086-C57A-4F09-84A3-E707A0F1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179-5980-4AF8-9DB5-AE901466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731-29C9-4E77-98C3-8A0F2F5F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5AE-6C16-46D1-9231-70CCD792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51C-A80D-4D9A-915A-745AA0DA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B3B-5698-4636-AE59-A7F87123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0EB3-E500-4DB1-9B48-9C96DCDDE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 Ty jediný všemoc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Boh si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jediný všemoc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Boh si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svetlom a sláv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priodieva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Stvoriteľ sveto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život s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ť v pokore chceme 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bete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prediv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múdrosti nedostiž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ševlád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láske vždy spravodliv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základ v nej len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večný tvoj tró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hriešnik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ríža znie milosti t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ž dosiaľ tu prevlád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ti moc zl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 každý len krát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 života m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 klíčime, kvitn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steblá trá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ám sa nemení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smíru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v odvahe vie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 chceme sa vzn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anjeli v úc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vzdávajú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smieme raz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nosťou nespúta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eba sa postav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menení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12:26Z</dcterms:modified>
  <cp:revision>26</cp:revision>
  <dc:subject/>
  <dc:title>Je veľký náš Pán, on slávy je Kráľ Nech do všetkých strán  spev vrúcnych znie chvál.</dc:title>
</cp:coreProperties>
</file>